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44564"/>
        <c:axId val="18403872"/>
      </c:barChart>
      <c:catAx>
        <c:axId val="74444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3872"/>
        <c:crosses val="autoZero"/>
        <c:auto val="1"/>
        <c:lblAlgn val="ctr"/>
        <c:lblOffset val="100"/>
        <c:noMultiLvlLbl val="0"/>
      </c:catAx>
      <c:valAx>
        <c:axId val="18403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4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4ED-74F9-412F-B37E-C967B4AD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CB3-6399-432B-AF91-580A569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931-6CDC-4A53-A186-A702FD2C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9AF-6E3E-4AE0-8D00-D2736B74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9B0-E540-4B34-9560-DD9BC09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7A9-42DA-4A2C-ADCF-D8BFF41A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B9D-00CC-4265-8128-0D5E13A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F43-656B-4647-9767-21ACA5C0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1E6-C05A-4801-8B02-7C1ED88C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E65-6DB8-4C57-B273-A073D052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82B-2252-4C04-A24C-CFBABC0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7D4-ED07-46BA-AE7F-16C4E30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7C474-554B-4051-BF78-F9997251CC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