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28872"/>
        <c:axId val="73888203"/>
      </c:barChart>
      <c:catAx>
        <c:axId val="24628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88203"/>
        <c:crosses val="autoZero"/>
        <c:auto val="1"/>
        <c:lblAlgn val="ctr"/>
        <c:lblOffset val="100"/>
        <c:noMultiLvlLbl val="0"/>
      </c:catAx>
      <c:valAx>
        <c:axId val="73888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28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68C-85E3-4C03-961D-51B6B807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F22-0B3F-409A-9059-55A23AB4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E39-46A9-4184-80D5-22367D3A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CDD-B564-4F7C-A86D-B84815C1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F9B-D37D-40B9-B08D-957F57A8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5D1-3806-4F40-A040-3DE8F8A5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49C-CAED-4625-AE4C-BEEE4BE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6A2-5CCE-4F77-897D-C2A03B7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8CA-91B8-4837-819D-384DCB6F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295-D333-4D22-9FE4-7A6EAD2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F57-DCED-4D05-9C02-D07D245D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B92-9123-495C-AE9F-4BF1804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15365-48C0-44C3-817B-AE4A1E7A97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