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91214"/>
        <c:axId val="26076909"/>
      </c:barChart>
      <c:catAx>
        <c:axId val="88091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76909"/>
        <c:crosses val="autoZero"/>
        <c:auto val="1"/>
        <c:lblAlgn val="ctr"/>
        <c:lblOffset val="100"/>
        <c:noMultiLvlLbl val="0"/>
      </c:catAx>
      <c:valAx>
        <c:axId val="26076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91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E3D-2A80-4A2E-AD0B-0E1A6140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753-FAB6-4DC0-B257-001974FE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687-6A39-49E1-83BD-A4F23D54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C57-D3CC-4BEE-B432-45DEE35D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BFC-CF17-4CDD-AE35-783D5062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5E3-8382-4A3C-8DA3-E73CD3DB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2C0-8BEF-41B2-9D41-F79AEF74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0B0-0389-489F-8A68-B6E9BF1E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946-2FBC-435C-A270-A45DF5A6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F61-D024-41C8-A384-70DA3C2F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274-AA21-4D1C-A003-458E534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439-0232-4755-8258-BFDCC45D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C59F9-61A9-4842-9A5C-0176A77416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