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39582"/>
        <c:axId val="97800611"/>
      </c:barChart>
      <c:catAx>
        <c:axId val="35739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0611"/>
        <c:crosses val="autoZero"/>
        <c:auto val="1"/>
        <c:lblAlgn val="ctr"/>
        <c:lblOffset val="100"/>
        <c:noMultiLvlLbl val="0"/>
      </c:catAx>
      <c:valAx>
        <c:axId val="97800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39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969-64E1-4E3B-8BB7-3F445952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B4F-5BBB-4160-9C26-E249798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A86-AEDD-4958-8F59-A55EE208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6DB-6321-4BBF-ABE7-953B67DC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700-36AC-44C0-B45F-E93A2B6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299-B85C-49E7-8179-623CA98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85B-2F68-42EF-999F-AFE37FFF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0AE-F6C9-40DE-AF97-389AF46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9D3-91EC-4CE1-9A5F-B7A14B0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102-BFD9-49B2-B951-5F827BE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977-34C9-4957-A7B4-4C12A83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1BC-29A7-4342-9915-8461F8C8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3F28A-C1C3-47FB-B740-4AB8F9231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