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279280"/>
        <c:axId val="2894596"/>
      </c:barChart>
      <c:catAx>
        <c:axId val="892792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4596"/>
        <c:crosses val="autoZero"/>
        <c:auto val="1"/>
        <c:lblAlgn val="ctr"/>
        <c:lblOffset val="100"/>
        <c:noMultiLvlLbl val="0"/>
      </c:catAx>
      <c:valAx>
        <c:axId val="28945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792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113E-7F30-4FD1-87DA-38934CE3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7163-0DD8-47DE-8179-1B9CB9D3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D8D7-F1C2-4773-91E1-03964276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FC03-4126-4958-9D85-91E42B68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DE62-CEC3-49AA-8603-7169D7BD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74A8-4BC2-4E27-BA16-F2A75B37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F7D6-80E3-4176-A02F-C28D84CB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2094-1EC6-430E-8047-0584BFA2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0B77-D49E-4999-BD4C-EB756EA5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48C8-244B-43C4-A7D8-1DC9280E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D486-C7A3-4C8B-9F6D-2788DA3D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FD73-B35C-44B2-A0C5-4DF6D096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E892E-319D-4F36-A2B2-73DCF5A3A2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