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99018"/>
        <c:axId val="31426331"/>
      </c:barChart>
      <c:catAx>
        <c:axId val="1919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26331"/>
        <c:crosses val="autoZero"/>
        <c:auto val="1"/>
        <c:lblAlgn val="ctr"/>
        <c:lblOffset val="100"/>
        <c:noMultiLvlLbl val="0"/>
      </c:catAx>
      <c:valAx>
        <c:axId val="31426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9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3D6-FA74-43D2-ADBA-A8EB6E7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D43-130E-4726-8655-140CB32E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BDC-3E2C-4AEA-979C-46C3E5D8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500-1FCD-4158-950D-40363071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9BA-95E0-43B7-9DF6-59EAE04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0DD-A585-4BBD-8E02-36A5BCDC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6A1-357E-4161-A91F-45020342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5A0-8B02-4122-993F-92508641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538-006F-487E-ABF7-DB9B64B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110-45FB-4F21-AA33-3B0040D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05A-C0FB-4000-AA52-F83C5BC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EE9-8C1A-4B85-8D29-C9D967F6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2A75D-F260-408A-9FF9-D346B1D15D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