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20828"/>
        <c:axId val="45591474"/>
      </c:barChart>
      <c:catAx>
        <c:axId val="47920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91474"/>
        <c:crosses val="autoZero"/>
        <c:auto val="1"/>
        <c:lblAlgn val="ctr"/>
        <c:lblOffset val="100"/>
        <c:noMultiLvlLbl val="0"/>
      </c:catAx>
      <c:valAx>
        <c:axId val="45591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20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F282-E372-4E7D-B2F8-0A214C2D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8B3-F040-4597-881A-7F65DB6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AD5-5F7B-4C2F-BDAE-56591186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643-BFA7-483D-9A15-D1605A56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6EA-41C6-4D6E-A822-E43FFEE0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E31-A1A7-4DAA-919E-C9DFDBDB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021-B6B4-4120-8D83-9086128B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98F-A97B-42DC-B200-98842515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783-5B8A-44A7-970F-C39FEA9B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770-84D8-4748-9567-5503FA64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A14-6675-4FED-ADBA-BB64938E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7AC-19B4-459E-B2AA-76A6AF10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F705E-3BFC-4214-A96F-1612CF03D7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