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61064"/>
        <c:axId val="2245795"/>
      </c:barChart>
      <c:catAx>
        <c:axId val="99761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5795"/>
        <c:crosses val="autoZero"/>
        <c:auto val="1"/>
        <c:lblAlgn val="ctr"/>
        <c:lblOffset val="100"/>
        <c:noMultiLvlLbl val="0"/>
      </c:catAx>
      <c:valAx>
        <c:axId val="2245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61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397-97DE-482C-83D9-9190184E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A33-2D84-486E-BCC2-9CC7152B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7E6-B06A-4849-8660-30DE0E37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4BD-D621-44BA-96BF-DC40DDBF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8E8-448D-4074-8ECE-78D5FCF8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081-1206-46B6-B116-8066A7BE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863-4A92-4FD4-9286-1AFAC1D1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FD9-A77E-47DB-A5AF-81D066BC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990-50FD-4902-A58C-9719ADEE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D8C-F61E-489D-A2C9-56D42485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639-CC1B-434F-A224-78735BBC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FEE-CAE8-4651-80C2-1D4F4A59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7386A-8382-4733-9BAE-D9785E70AF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