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4651309"/>
        <c:axId val="41637786"/>
      </c:barChart>
      <c:catAx>
        <c:axId val="9465130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1637786"/>
        <c:crosses val="autoZero"/>
        <c:auto val="1"/>
        <c:lblAlgn val="ctr"/>
        <c:lblOffset val="100"/>
        <c:noMultiLvlLbl val="0"/>
      </c:catAx>
      <c:valAx>
        <c:axId val="4163778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465130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1BA3F-D1E6-4878-AEAC-9EE3793FA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76F68-E6AA-4EA3-8A0B-E638569C5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1781F-EDAB-4A5E-BB9F-D8BBC69A4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24D49-FCA1-4176-8C14-EDD0AC573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C4EE9-B8E3-4511-BA5A-20D3AC4F4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ABBEC-4E69-4859-80B9-82F861190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C27A8-5FBB-4B62-8614-5DAB03D78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86D29-64E9-4CDF-9359-FD9446BCD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668A6-38F8-41BF-8386-FDA78B47F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072C8-BAF0-43D5-99A7-608D41C5C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70D60-14B7-4A2B-A562-F51A58C6F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09377-76CF-4AF4-83D4-C381160BD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412916-DB36-4835-B1F4-4C76931FEFB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