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32544"/>
        <c:axId val="99857433"/>
      </c:barChart>
      <c:catAx>
        <c:axId val="35432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57433"/>
        <c:crosses val="autoZero"/>
        <c:auto val="1"/>
        <c:lblAlgn val="ctr"/>
        <c:lblOffset val="100"/>
        <c:noMultiLvlLbl val="0"/>
      </c:catAx>
      <c:valAx>
        <c:axId val="99857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2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F0A-074B-448F-8DAB-2CBB34AD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59A-E4B7-42B0-9604-889E88F6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25C-9D2A-4B5F-9719-636021C7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583-4143-442E-BE5D-090180F1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6C4-E88F-470F-9A0E-BDDB3978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F14-13A3-478F-9730-4529D53F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C1-F6D9-4ADC-9FB6-90AE0DAB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021-26EC-4F90-B9DF-B8547490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52C-382A-4EA1-A817-55ECCADB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399-971D-4626-8745-4DB6F35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C3F-F5ED-482A-853C-D29229A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710-1693-40A4-B0AE-DEEF5FF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0C50-3A48-4886-863B-52F2DBC3F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