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284"/>
        <c:axId val="5070523"/>
      </c:barChart>
      <c:catAx>
        <c:axId val="171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0523"/>
        <c:crosses val="autoZero"/>
        <c:auto val="1"/>
        <c:lblAlgn val="ctr"/>
        <c:lblOffset val="100"/>
        <c:noMultiLvlLbl val="0"/>
      </c:catAx>
      <c:valAx>
        <c:axId val="5070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D6B-5911-4F03-8AAC-AFF77F55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4F4-A6E6-43BC-98D6-04FBEB6B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31E-5DEC-4DF8-94ED-0E058389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FD7-2E10-4216-9EAA-6FA551CA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E7D-6853-40DA-A942-4DAB9B0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B44-3F29-49B5-BCD7-3292F902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B2A-6E02-490A-B880-3BFDFBDD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E16-506F-4F2F-B091-7F4C2120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E2C-7D8B-48F9-8F81-0AA88039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196-276A-47D3-844E-BEA0690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903-E28A-4C28-91FA-8482DF1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757-76D2-4DEA-94D5-9ABC640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9D7D2-E8A7-43D9-B5D4-CFCFD2D11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