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75106"/>
        <c:axId val="74801119"/>
      </c:barChart>
      <c:catAx>
        <c:axId val="25751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01119"/>
        <c:crosses val="autoZero"/>
        <c:auto val="1"/>
        <c:lblAlgn val="ctr"/>
        <c:lblOffset val="100"/>
        <c:noMultiLvlLbl val="0"/>
      </c:catAx>
      <c:valAx>
        <c:axId val="748011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51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E765-5F0E-483E-AC96-3B18A6AF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EB3A-8E17-41F6-9B06-789078B4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8D91-482B-4765-908C-DBEB8BC2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C531-F39C-4DA7-AA6A-5F41B0CC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10E5-5485-479B-98C2-B044BE9B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1C3F-677B-4EEF-B988-9D86B8B1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6CD9-0288-4882-AB1A-90FE5936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FE9B-11B4-4D9D-95CF-FBA2EA05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21C1-6FD4-40AC-A55E-15D19BC1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7A09-2807-4F0E-BCBA-F8BAAEB2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2889-F85C-414B-A286-82E0FAD1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BF80-B245-4CC0-AD72-E633C582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BE32B-56F0-404A-BE80-8714F68B35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