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52230"/>
        <c:axId val="41486375"/>
      </c:barChart>
      <c:catAx>
        <c:axId val="99852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86375"/>
        <c:crosses val="autoZero"/>
        <c:auto val="1"/>
        <c:lblAlgn val="ctr"/>
        <c:lblOffset val="100"/>
        <c:noMultiLvlLbl val="0"/>
      </c:catAx>
      <c:valAx>
        <c:axId val="41486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52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737-32C7-4D98-88A9-CF4A2C80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A4B-AAF5-466F-AB91-9B601F64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6A4-0B99-410C-A0EF-3F0BF39D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8A43-F122-472B-918D-D48FD528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104D-B18B-4B60-AF9E-73C95615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5CB-1C3D-4CF2-A333-50EC7BF6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19A-19F2-47B7-A6A5-5BB6BF6C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D40-6DC1-43CB-8490-CDB8F59A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8A22-D0EB-4EE1-8BDD-A4E1919C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BF6-C33E-4FD3-AB74-4CDB68DB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2FE-B025-4C4A-83F7-B471CDC7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AC5-091F-4FA3-B196-F902F29A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95AAF-ED25-459E-B3FF-E3B3350728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