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51764"/>
        <c:axId val="30377011"/>
      </c:barChart>
      <c:catAx>
        <c:axId val="88151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77011"/>
        <c:crosses val="autoZero"/>
        <c:auto val="1"/>
        <c:lblAlgn val="ctr"/>
        <c:lblOffset val="100"/>
        <c:noMultiLvlLbl val="0"/>
      </c:catAx>
      <c:valAx>
        <c:axId val="30377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51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0A8-BA66-4FE7-ADC6-1C96545B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904-58AD-4F8C-A557-2B8576B5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561-7FEB-465A-A1EC-3770AECE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009-F7F7-4367-8038-8565761E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A1B-A3B9-4BEB-98CD-CD6482B2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438-96F6-448F-8E1C-B7810B48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4DA-5E93-4A8E-BE32-62B5EFE8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F60-3C02-413C-BE7E-10434D5F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A21-10D6-4C88-AFC1-FE690CD2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7B2-3BB6-4322-8302-3DB6225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C5A-4F55-45C0-B7E0-C11E7C6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02B-5D54-41EB-8905-5F5B046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B9511-2009-40B7-8948-D0EFCDDFBF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