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81556"/>
        <c:axId val="40591974"/>
      </c:barChart>
      <c:catAx>
        <c:axId val="53181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91974"/>
        <c:crosses val="autoZero"/>
        <c:auto val="1"/>
        <c:lblAlgn val="ctr"/>
        <c:lblOffset val="100"/>
        <c:noMultiLvlLbl val="0"/>
      </c:catAx>
      <c:valAx>
        <c:axId val="405919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81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5E2-4138-49BE-94C4-D72E3349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2B8-5029-4CAC-A17D-8C66FCBA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B46-FFF0-41EF-B078-DC455EAD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F8E2-5770-473F-9C47-ACB29751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EEC-24AD-4DE0-9DE5-FA319327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4EC-17B9-420D-9992-4CEE8D60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4F7-C50D-460D-B53B-6AE9AD23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34AB-5507-4514-8743-F7937E28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58A-62B2-4D7C-9F64-4137C29B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43B5-2A13-415D-84C9-5845A6E8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A35-4437-4C21-B7DE-3BF48F03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13E4-BBE1-4497-A6EE-B96FE142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8CB71-FBF2-4F2B-B68E-A1BFF71BA4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