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53307"/>
        <c:axId val="33891784"/>
      </c:barChart>
      <c:catAx>
        <c:axId val="28053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91784"/>
        <c:crosses val="autoZero"/>
        <c:auto val="1"/>
        <c:lblAlgn val="ctr"/>
        <c:lblOffset val="100"/>
        <c:noMultiLvlLbl val="0"/>
      </c:catAx>
      <c:valAx>
        <c:axId val="33891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53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9EC-053C-4154-B3FF-CDEF33C1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B3E-EDFD-41FF-ACD1-34B144DB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EBD-3625-49E6-A14B-9D5AD7F3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45C-566D-40E6-B7A9-E44C420F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82C-7272-4EB8-824E-5BE32184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BD5-E52D-4975-B4C2-DA2D36B9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885-F170-4394-AD1D-555F77B9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482-E551-4A7B-B3E9-49CE82C3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A37-5A5E-41C2-BEEB-59D96A1A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F4F-AA4B-40B8-97C1-AB4D3C2C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3FF-5798-468F-9C18-6722734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2AB-8A40-4A47-B368-5B3F97C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AE960-6554-4957-A347-F1DAAE2C24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