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99974"/>
        <c:axId val="58258575"/>
      </c:barChart>
      <c:catAx>
        <c:axId val="35699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58575"/>
        <c:crosses val="autoZero"/>
        <c:auto val="1"/>
        <c:lblAlgn val="ctr"/>
        <c:lblOffset val="100"/>
        <c:noMultiLvlLbl val="0"/>
      </c:catAx>
      <c:valAx>
        <c:axId val="58258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99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30B-ED47-487C-A961-0EF4A6EA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EC8-2389-488E-870F-C2542088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606-434E-4EF7-8F9F-4078CA21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B5E-FAB4-41C3-B81E-41540654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5A3-C1E2-40B8-9440-45984BA7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AED-C7E4-491B-8830-559C73FB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4FF-FAA7-4312-9942-C339FED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6DB-45B6-439E-858D-D6A66C9D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C6F-DBFF-4FDE-AD3F-9400CB39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327-4D94-48DC-A005-DBDCBA69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DB5-A391-4CBE-808E-359CACE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E95-5A86-420C-9AFD-6CE1D38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2DE5B-120B-4412-B155-4DEDB55F9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