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84955"/>
        <c:axId val="36764634"/>
      </c:barChart>
      <c:catAx>
        <c:axId val="53784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64634"/>
        <c:crosses val="autoZero"/>
        <c:auto val="1"/>
        <c:lblAlgn val="ctr"/>
        <c:lblOffset val="100"/>
        <c:noMultiLvlLbl val="0"/>
      </c:catAx>
      <c:valAx>
        <c:axId val="36764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84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E5D-4CDC-4559-9135-6D8ACE93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535-5761-463A-B844-D0900E55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126-5857-4D8D-A4D4-3A1D1AC6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F5C-B387-4492-9C89-F904BCC0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69C-0667-43B4-B82B-6E84F53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04D-F8AA-4D64-A411-3159D0AE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15B-A73D-4C62-AC09-93979C16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865-CAAE-48FE-9004-14E624B6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68D-95DE-47AD-834A-C955CD3D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6B5-C6D0-47A7-BB6D-3DA9520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B3C-D400-4BCF-929A-A92357C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486-3C6C-4786-8364-AE4280B1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ABC22-AE90-4806-BED7-8546EE125B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