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22657"/>
        <c:axId val="19527448"/>
      </c:barChart>
      <c:catAx>
        <c:axId val="31022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7448"/>
        <c:crosses val="autoZero"/>
        <c:auto val="1"/>
        <c:lblAlgn val="ctr"/>
        <c:lblOffset val="100"/>
        <c:noMultiLvlLbl val="0"/>
      </c:catAx>
      <c:valAx>
        <c:axId val="19527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2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AEE-FFFF-448D-9FE0-DE788DD7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D77-520D-4C6D-B6D3-65F5283B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6B6-14FE-4D03-B618-5A754323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C79-B316-4A2B-9847-30941D58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1D5-BD6E-42A2-A442-74B9D2CA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A30-AB4C-498F-97D4-FA60C77A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E0C-85C4-4E92-BFFF-24BAAF6C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FC5-DA51-48F1-949D-493FD3FA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5D8-3058-4336-A1D2-2AA2484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B1E-2E08-4274-ABC1-F63D599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A54-6301-4A74-B347-DB870448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F87-C5BE-4D73-9618-67A3D7B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038A3-9A7D-46C5-80F5-3A9AD50B66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