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19801"/>
        <c:axId val="42335702"/>
      </c:barChart>
      <c:catAx>
        <c:axId val="922198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5702"/>
        <c:crosses val="autoZero"/>
        <c:auto val="1"/>
        <c:lblAlgn val="ctr"/>
        <c:lblOffset val="100"/>
        <c:noMultiLvlLbl val="0"/>
      </c:catAx>
      <c:valAx>
        <c:axId val="42335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198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7BC-7B22-427B-8FE5-E45160AE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C67-7D9E-42B3-97C0-EA5268A9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5BA-28B1-40ED-AD54-217806D6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2F5-56AB-406B-B4BD-E5C88D15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1E6-47DB-4596-BDC7-DE505F44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077F-838F-44EA-8BD1-7F40E530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97D-6E68-4C9A-B3A0-F83A7449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206-13F1-48D2-896E-9E816138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FD2-217C-4AC7-82F1-5746E24A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370-1807-4D4A-92AF-4A38B5DC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C3F-A975-43D2-B892-207A98BD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F92-65E6-4DED-AD26-EF858DED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9B4D7-BFDD-4B33-94A8-95F27AA585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