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98513"/>
        <c:axId val="22453018"/>
      </c:barChart>
      <c:catAx>
        <c:axId val="1849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53018"/>
        <c:crosses val="autoZero"/>
        <c:auto val="1"/>
        <c:lblAlgn val="ctr"/>
        <c:lblOffset val="100"/>
        <c:noMultiLvlLbl val="0"/>
      </c:catAx>
      <c:valAx>
        <c:axId val="22453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41B6-1384-4B07-866F-ECAC47D4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23D-CB42-47F5-9596-A374452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168-3171-4C8B-ABF7-7AB01475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AAC-A6C3-4106-8861-B95F1428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B41-834E-4101-8099-A6E20C35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D66-E99E-47B2-AA5C-AAA5A0D3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E07-39D0-4097-A5C5-A4B3A21E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327-F280-41F9-B142-704A831B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3C2-ABB2-4BBD-A6A9-824E687B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1CC-35BF-480C-AC78-2E7B3C5F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FF7-7ADC-44E3-A20C-53469F4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B58-E346-483D-A2F0-1FD13FF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7DFB7-AC4E-491D-BE8D-3346026AB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