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904380"/>
        <c:axId val="7074106"/>
      </c:barChart>
      <c:catAx>
        <c:axId val="489043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74106"/>
        <c:crosses val="autoZero"/>
        <c:auto val="1"/>
        <c:lblAlgn val="ctr"/>
        <c:lblOffset val="100"/>
        <c:noMultiLvlLbl val="0"/>
      </c:catAx>
      <c:valAx>
        <c:axId val="70741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9043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642E-1496-4CE4-AFB5-1E396D4FE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F712-F527-4D61-84CF-0E79C5D3B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2AD5-D0CB-4205-978E-1D3A026E7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35DA-AECB-4F34-BE83-438A1893D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9069-55BA-45D8-9552-B11B5E1F8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2886-B06D-4829-B435-84A84B1A1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972B-4588-4C5D-A0E2-35450B16D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8AD2-94ED-4FEB-B980-514E41DEF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507F-93A4-4AFD-B2C6-699ADA63B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CF80-AB60-4694-9EF6-A8FDA7E2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7ACE-489C-4DA8-AD71-DA3F82750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FFC5-88DB-4A7B-B01D-40CAAB98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087C0A-C405-4CC6-92E7-09652B67D84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