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7852"/>
        <c:axId val="30011226"/>
      </c:barChart>
      <c:catAx>
        <c:axId val="49478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11226"/>
        <c:crosses val="autoZero"/>
        <c:auto val="1"/>
        <c:lblAlgn val="ctr"/>
        <c:lblOffset val="100"/>
        <c:noMultiLvlLbl val="0"/>
      </c:catAx>
      <c:valAx>
        <c:axId val="30011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78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CC9-1E7C-4C6B-B9E9-181ED716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37E-943A-4B7D-BDDB-F268BCCE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002-F3C9-4A70-A151-542514B2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44D-BDC2-4583-818C-FFC66637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889-8306-4D98-A978-FAE5626A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D76-F8A7-4D44-A031-FFD6DD2B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393-CA8B-4FA9-8DAB-77B80D8D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2DF-9576-4226-8C39-44486C6C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02E4-006B-4959-94CC-032BF7CD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65B-1DF3-451A-9951-179E8C2F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580-7244-468A-91F6-A9CF3C82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F670-1E99-46D6-80AF-BE3ABF26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19A5A-73B0-4F77-8B6D-525D93435F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