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728785"/>
        <c:axId val="22302843"/>
      </c:barChart>
      <c:catAx>
        <c:axId val="517287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302843"/>
        <c:crosses val="autoZero"/>
        <c:auto val="1"/>
        <c:lblAlgn val="ctr"/>
        <c:lblOffset val="100"/>
        <c:noMultiLvlLbl val="0"/>
      </c:catAx>
      <c:valAx>
        <c:axId val="223028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7287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197F-42EC-4D37-99FD-275B5409D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E97B-8315-4D14-B638-365ACB20F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CA72-6CBD-4C6C-A764-1BB1DE4AB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E4A2-B866-483C-8721-F0F83C1D0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AA06-8010-48DE-B1F1-C718770B8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DEAD-A355-4C17-A13B-87F3E128A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6D27-8FE7-4259-9643-DBE06C979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91B2-1258-4385-AD7B-3E0C9E54A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CDFF-412A-493D-ADE8-665CF5674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EBDA-B688-4DE7-AFED-C751295F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E05C-0DFA-4F5E-A354-2D626DFF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FE49-2717-4704-B4A5-3FA258928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56E16E-0EF2-42A5-B139-DFD05B5E48C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