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15620"/>
        <c:axId val="20513856"/>
      </c:barChart>
      <c:catAx>
        <c:axId val="15815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13856"/>
        <c:crosses val="autoZero"/>
        <c:auto val="1"/>
        <c:lblAlgn val="ctr"/>
        <c:lblOffset val="100"/>
        <c:noMultiLvlLbl val="0"/>
      </c:catAx>
      <c:valAx>
        <c:axId val="20513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15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E06-3030-4F05-AE0D-02FD2BF0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CF2-DC8F-4D37-8FA2-76F3735E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34F-A452-4502-ADDB-3FE0922D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A57-5FE6-479C-ABCC-5E8E2D46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D1F-6026-430F-9733-1C9A7F69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0AD-8A3B-4774-9C98-ACC0A835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065-C6D9-44BC-ABB7-C7394265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6CA-4AE8-490F-81BD-33B68FE7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AB7-BE4F-42FC-8E0A-911C3717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653-7C69-4933-A268-D5955E9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70E-C043-45E1-AF73-671CD86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24E-A122-47AD-B353-46F707B5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CAEF8-FD70-46AB-98D3-E0F23C662F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