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07701"/>
        <c:axId val="96970784"/>
      </c:barChart>
      <c:catAx>
        <c:axId val="83707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70784"/>
        <c:crosses val="autoZero"/>
        <c:auto val="1"/>
        <c:lblAlgn val="ctr"/>
        <c:lblOffset val="100"/>
        <c:noMultiLvlLbl val="0"/>
      </c:catAx>
      <c:valAx>
        <c:axId val="96970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07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CFB-471C-4526-A69E-9487D2B7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3F7-6EE6-4C4D-BB55-A4AF8ABE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7EC-678C-4C3E-BEE1-B950A63E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760-C57B-4B63-9C30-997AEB1F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ABC-FFE8-478E-BF58-87A3E32B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BF9-9851-4D10-AA9F-31C689BA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044-F8B6-436E-8E25-946EFEC5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FAB8-E8CC-466B-8F75-1873E063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B47-CB73-4943-85B0-FED8AE8E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831-AF5F-4886-A889-99722F17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E83-A307-42DE-B288-5DB21885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B7A-C304-41BC-99B8-17731732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E385F-736D-4C4D-936C-B2373364D5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