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37504"/>
        <c:axId val="12894970"/>
      </c:barChart>
      <c:catAx>
        <c:axId val="53237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94970"/>
        <c:crosses val="autoZero"/>
        <c:auto val="1"/>
        <c:lblAlgn val="ctr"/>
        <c:lblOffset val="100"/>
        <c:noMultiLvlLbl val="0"/>
      </c:catAx>
      <c:valAx>
        <c:axId val="12894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37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5BA-DE7A-464E-A219-082BB7F9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10D-CAD9-4D54-B9D0-E8A3EBE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9B1-58F5-4D72-85B9-4A8E6CA5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ED6-89CC-4B3E-B742-237CF363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3DB-3F04-4703-B979-2564F61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AC2-F538-4AC4-971F-C9528F36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6F3-1167-4CB8-8935-1B4D2AE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D42-BB12-4E2F-9AC0-7AEC3DA7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7C9-9A2C-483C-BA7E-C1E66B1D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070-D5E9-417D-9D08-594995C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01E-5633-4C6F-B9E0-28C4211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076-6FEA-4E5A-A84C-8ABA88B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69611-2AD6-473D-B8B3-0CC72B621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