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4404596"/>
        <c:axId val="63275642"/>
      </c:barChart>
      <c:catAx>
        <c:axId val="5440459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275642"/>
        <c:crosses val="autoZero"/>
        <c:auto val="1"/>
        <c:lblAlgn val="ctr"/>
        <c:lblOffset val="100"/>
        <c:noMultiLvlLbl val="0"/>
      </c:catAx>
      <c:valAx>
        <c:axId val="6327564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40459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A205B-2D07-4546-BA68-9F2AFE00B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6F6A6-02E4-4555-B0E1-1B5EC2AF5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D63BE-8628-44E4-AFB5-1E824C785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AF892-CEAE-40C4-AC12-516C01F6A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33EE5-CF6F-400F-AFB9-89DB3D9F4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79248-849A-431A-B9D9-58B7DA840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13AB2-7260-48CB-85A7-5D08B8757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02EA5-2720-4423-B185-328BBFC78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DCB8B-027F-422B-B345-529397031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1E958-884F-4159-999F-E22F2E152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29A7C-307B-4EAE-A1CE-BEF71F9A1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F0665-EF38-4212-9DCA-08CA6295D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4215BA-1BC5-4DCB-80C0-00850A6E4AD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