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484847"/>
        <c:axId val="88161791"/>
      </c:barChart>
      <c:catAx>
        <c:axId val="47484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61791"/>
        <c:crosses val="autoZero"/>
        <c:auto val="1"/>
        <c:lblAlgn val="ctr"/>
        <c:lblOffset val="100"/>
        <c:noMultiLvlLbl val="0"/>
      </c:catAx>
      <c:valAx>
        <c:axId val="88161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84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DD55-2FEF-4D06-9145-E82364E5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7BD-155F-4641-AC92-EAD1A451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2F98-0657-407C-A501-E60848A2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D6A-11E3-4AE3-806C-C6D98461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167C-5EB5-47BF-93BB-19F99F2E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16A4-5F4A-413E-AF02-28179F8A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8F2-1FDC-4F66-BA00-213253B3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7C7-4666-46C5-ABA7-05ABF312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C98-2B26-47F7-B9FD-5CF5ADC3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D73-E810-45BA-A0DF-3DB3B39F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926F-DC86-414A-BB95-2AA4233D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480-0AE1-4792-A8B6-0CD33D08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0C594-E45F-4089-A566-943BF17821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