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43745"/>
        <c:axId val="6416059"/>
      </c:barChart>
      <c:catAx>
        <c:axId val="25143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6059"/>
        <c:crosses val="autoZero"/>
        <c:auto val="1"/>
        <c:lblAlgn val="ctr"/>
        <c:lblOffset val="100"/>
        <c:noMultiLvlLbl val="0"/>
      </c:catAx>
      <c:valAx>
        <c:axId val="6416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43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39-21E2-4572-9769-5B5E665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DF0-4634-4E7E-801B-DFF3046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5CA-C9DF-4F1C-BEE2-05201730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879-87CE-4D44-90AF-C0A1039E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5E1-ABEA-4D38-B1AC-52F27D2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B61-DC65-4EED-AB45-61C7A9A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1F2-CE1B-418F-B672-9488E222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466-081D-4EA1-A30A-5C4E134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E03-398F-4C0D-A604-7A7B800F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777-E124-4F78-814A-6B7FDCC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2C1-675B-49E8-9E64-5BDF53F3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EF4-A960-4DF1-A539-E9F2144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E73ED-FA91-491E-A2B4-D6DF0CE85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