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36307"/>
        <c:axId val="31473370"/>
      </c:barChart>
      <c:catAx>
        <c:axId val="22136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73370"/>
        <c:crosses val="autoZero"/>
        <c:auto val="1"/>
        <c:lblAlgn val="ctr"/>
        <c:lblOffset val="100"/>
        <c:noMultiLvlLbl val="0"/>
      </c:catAx>
      <c:valAx>
        <c:axId val="31473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36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170-4CB0-4BCD-9D45-715AE09E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5A4-8724-4FE1-A791-201EE776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B94-B345-47B1-B78F-DEDE90BD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B2E-593E-4A52-9ECD-BEEC4564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C8E-9C4B-4EE9-B344-9103B5E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54B-1F78-413F-A8E2-0709470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23F-B771-4E56-86A7-694D53F6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E3C-D64A-43FE-A8E7-0B4CA35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CE7-0FF5-4677-B3A7-8A709CD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8DF-C519-4862-98AB-D9B0526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B88-EE85-4AF7-8454-2BBBE9D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E88-D152-4134-9DB0-CF3E53B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DB2C8-4F52-4B70-ACA3-D40D31965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