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09103"/>
        <c:axId val="48058467"/>
      </c:barChart>
      <c:catAx>
        <c:axId val="57209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58467"/>
        <c:crosses val="autoZero"/>
        <c:auto val="1"/>
        <c:lblAlgn val="ctr"/>
        <c:lblOffset val="100"/>
        <c:noMultiLvlLbl val="0"/>
      </c:catAx>
      <c:valAx>
        <c:axId val="48058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09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EB4-911C-4E23-B419-498A991D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29F-FA64-4B01-BC91-B7CAE30B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53D-6B74-41DD-AEBC-68EF6118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5A4-E26E-449B-AB78-2DDB02C0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D88-992B-42C5-AEAA-4943EE64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5D7-3318-4ACE-BFF3-EAAD6689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27D-982A-4B74-839E-A06FCDF2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3D3-728C-45FB-BCA9-85B7E4F2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67E-2300-4CFA-A052-4BF4CDA2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6A0-D4A5-4A8A-B2E4-993BA4B0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24D-03A3-4D6D-947C-71831A22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824-2440-4216-ADEB-93222278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6AFD8-9B74-4A7B-9249-E340BEAC3F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