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05690"/>
        <c:axId val="16271007"/>
      </c:barChart>
      <c:catAx>
        <c:axId val="90405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71007"/>
        <c:crosses val="autoZero"/>
        <c:auto val="1"/>
        <c:lblAlgn val="ctr"/>
        <c:lblOffset val="100"/>
        <c:noMultiLvlLbl val="0"/>
      </c:catAx>
      <c:valAx>
        <c:axId val="16271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05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D94-9B3A-4CB9-AEF5-3E0FD794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CA2A-3DBD-4D5C-9362-E0EDDC80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AE0-7CDE-4E46-8689-C0375487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1E8-49D8-4EB9-AF72-AA059213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2D5-CA40-4D46-9932-556BFD56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FE9-369F-42EA-A527-C09188B2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37F-6B11-4D87-ACD7-A63C7456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89D-B12B-400A-83CA-299C0754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ED3-D871-455C-832C-3D7D711E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A71-BFA6-41DB-83DD-FF6E253B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24D0-19BF-4AF9-BD10-1F727858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92F-85B8-4758-B31F-73BE7DCC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6CA0A-1088-4451-8C21-639D029AD0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