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61663"/>
        <c:axId val="76561615"/>
      </c:barChart>
      <c:catAx>
        <c:axId val="429616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61615"/>
        <c:crosses val="autoZero"/>
        <c:auto val="1"/>
        <c:lblAlgn val="ctr"/>
        <c:lblOffset val="100"/>
        <c:noMultiLvlLbl val="0"/>
      </c:catAx>
      <c:valAx>
        <c:axId val="76561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616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319-4CAB-44B9-85E4-76FE84D1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49C-E712-4E27-A27A-A35FA53A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75E-AB9A-4245-BFFB-98A6ECEE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14C-024D-45F6-8069-FF33C335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EDB-5F22-4FD5-8711-4FD71CBA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6FE-3149-4BA3-B354-D76E8A0A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6CF9-036F-4CB5-A12B-C81D3EB5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6C6-3E66-414C-A717-B0A58DFA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F48-37E8-4153-BB7B-E9B14FF4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D91-B5EF-418D-B8F7-15DBA849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D8F-EB3E-468F-8987-638A84E0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487-15E3-4E09-B01B-A9B6DF5C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175B3-7B94-46E8-838E-5951A4DDF6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