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70490"/>
        <c:axId val="36220066"/>
      </c:barChart>
      <c:catAx>
        <c:axId val="94370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20066"/>
        <c:crosses val="autoZero"/>
        <c:auto val="1"/>
        <c:lblAlgn val="ctr"/>
        <c:lblOffset val="100"/>
        <c:noMultiLvlLbl val="0"/>
      </c:catAx>
      <c:valAx>
        <c:axId val="36220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70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C36-1525-4292-AEC5-8B7BD9C1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ECE-1D7F-4201-B609-6EADD25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CFD-B291-4E02-86EB-CB1FE40D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F9B-23BA-4A3E-8CD9-EEAB7937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FEC-59A1-4205-B6F5-3C1BD9F5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BFE-1C82-4578-8F11-1F239A6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FCF-B4B3-4989-9C12-45C7FEE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107-97BB-4668-B9CD-721928E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565-20E4-45D6-9157-07E502A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2BE-7055-4B2D-98BF-A728CDF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0E9-DDE1-4D25-968A-782E96D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1C8-3578-4661-857A-8A5AAA2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E1F31-4390-4FC2-ACC5-05A882B90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