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8725581"/>
        <c:axId val="4304863"/>
      </c:barChart>
      <c:catAx>
        <c:axId val="2872558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04863"/>
        <c:crosses val="autoZero"/>
        <c:auto val="1"/>
        <c:lblAlgn val="ctr"/>
        <c:lblOffset val="100"/>
        <c:noMultiLvlLbl val="0"/>
      </c:catAx>
      <c:valAx>
        <c:axId val="430486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72558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A567-4313-4E2B-9153-1680B55FF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7FD0-78C2-4E6B-86D2-50A905368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7172-2BA0-4CBD-9BC4-5CA1AFEBE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714B-18D8-4E5B-AB09-EA30C3DDA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9054-9AD4-474E-8188-D6B6A5B3E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BBF6-31AB-4075-91AE-88DB1FA42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B482-9C4A-4F96-B405-6582E83DF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6C04-A920-419B-8838-CDE8F848B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DC7A-D96E-4DF5-BAC0-3B142ED03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2A4E-D7DC-4303-9297-1E074D6F9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1931-BC58-4F71-9A1E-0F85BD657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622B-5A19-421A-99EF-CF0F61372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AEE383-DF9A-4C71-90C4-B9B733CB05A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