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62011"/>
        <c:axId val="64136817"/>
      </c:barChart>
      <c:catAx>
        <c:axId val="85162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36817"/>
        <c:crosses val="autoZero"/>
        <c:auto val="1"/>
        <c:lblAlgn val="ctr"/>
        <c:lblOffset val="100"/>
        <c:noMultiLvlLbl val="0"/>
      </c:catAx>
      <c:valAx>
        <c:axId val="64136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62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F77-9272-4229-9537-DAEB62C5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2B6-2C29-47B7-8D7F-EC2C0182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5DF-75A8-4021-B64E-D77BB06D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8F2-C595-4C07-A269-F6558076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8D8-7C31-4385-99CC-99F0012E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9A2-C249-4940-9328-D9ECB812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CD8-39B3-4D07-B928-2F7A22D7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461-5681-43BB-B91B-39C6CC0E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65E-C33E-4897-AE9E-94696D6E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14B-CCF1-49C6-8ED1-90CE9AA6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657-6216-4765-ADD7-E1F4109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05C-FA89-445B-9E88-6AE8BD2B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3AD83-D824-44DB-B295-78AB41496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