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63584"/>
        <c:axId val="34669930"/>
      </c:barChart>
      <c:catAx>
        <c:axId val="91263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69930"/>
        <c:crosses val="autoZero"/>
        <c:auto val="1"/>
        <c:lblAlgn val="ctr"/>
        <c:lblOffset val="100"/>
        <c:noMultiLvlLbl val="0"/>
      </c:catAx>
      <c:valAx>
        <c:axId val="346699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63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52A-F6A7-46F7-9EFB-A5C9F52F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D636-1749-4E9B-96FA-494AE290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58D7-4AFD-4060-BE19-DCCE785F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880-BBE7-4AB2-AF1C-43051721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E8EA-EB7E-4975-91CE-59CB571E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8129-618F-4BF4-878D-90DA01E8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C33F-7ABE-490B-B256-E3CD2887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05A-76E7-4F3F-8654-99744DF8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E3C-4F8A-49CA-920B-21F5E6BE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D548-1641-4BC7-9698-B97EC0CE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3106-9A1B-4E34-BE3F-B3F93C15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9F7-7A3C-4EAE-8B9D-84688C42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2BB69-8DA0-494C-AA07-E1E5D9B660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