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53275"/>
        <c:axId val="61048611"/>
      </c:barChart>
      <c:catAx>
        <c:axId val="67253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48611"/>
        <c:crosses val="autoZero"/>
        <c:auto val="1"/>
        <c:lblAlgn val="ctr"/>
        <c:lblOffset val="100"/>
        <c:noMultiLvlLbl val="0"/>
      </c:catAx>
      <c:valAx>
        <c:axId val="61048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53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3D4-A1FB-4312-8330-A270084C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759-86F1-4CE5-BE99-9F15683B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079-E18F-402D-A55D-1160E19D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BC5-706C-47D9-BBD7-88A305BB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4AE-E291-4C7E-920C-3878B526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9CA-D81C-4B25-99C0-1C116DD4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AA4-EA27-479E-B6EF-04BE1CB4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EC4-B47A-43BE-8566-B35883B1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398-6D81-49FD-8634-B0F7582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AFB-8AC5-4D1D-98AB-1EDF43C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57A-138A-4FB7-B878-893878BA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F66-0C25-4E5B-82D4-6E8256F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19C10-9B0F-4590-AE0C-AEB6F96B1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