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984042"/>
        <c:axId val="87501154"/>
      </c:barChart>
      <c:catAx>
        <c:axId val="209840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501154"/>
        <c:crosses val="autoZero"/>
        <c:auto val="1"/>
        <c:lblAlgn val="ctr"/>
        <c:lblOffset val="100"/>
        <c:noMultiLvlLbl val="0"/>
      </c:catAx>
      <c:valAx>
        <c:axId val="875011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9840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75B0-2C36-4668-9AE3-6A723AAD3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BB91-5B3B-42EA-A10C-DF52EB636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6D8F-C2D2-434F-AD95-7B1231BA2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6610-A036-4258-BB90-D14229BC6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99EC-D232-4774-A388-9510DC902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E0AB-B959-4B38-9593-CF2EA7CA6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7E0A-B1DF-4E3B-A2AF-8A6EA7BF8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91E6-D433-48C9-9A97-85D1DFB4D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85BC-BEBF-40C7-B956-897059077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912A-6BD2-491B-A184-29823BC4D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9844-A61D-477D-9933-DA0FF5F8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941C-A56E-4C86-9FF1-ADA9D1914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F72E84-A6E4-423D-8F0E-68B0D44C90F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