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64605"/>
        <c:axId val="49730578"/>
      </c:barChart>
      <c:catAx>
        <c:axId val="88164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30578"/>
        <c:crosses val="autoZero"/>
        <c:auto val="1"/>
        <c:lblAlgn val="ctr"/>
        <c:lblOffset val="100"/>
        <c:noMultiLvlLbl val="0"/>
      </c:catAx>
      <c:valAx>
        <c:axId val="49730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64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65D-E54F-4BB4-BF0E-61244185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544-1E82-43D3-A768-EA59EAD0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B01-0610-4A2D-8374-E632D6E9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995-7873-42CD-AC4A-43D44872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68A-F64A-4456-ABAC-F452006C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96C-E1F5-4BFE-8229-017764E2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287-9997-4D5A-B178-719FDA60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509-054D-4943-8069-0679F262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024-13C8-4929-9CE5-CEFAB8CB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A6F-A6AF-403D-B4B5-139A4A45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473-F6F0-40DE-90D4-D3F63FF2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147-E74C-45BC-B0B1-718F5C8D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0650D-151B-4CE6-AD24-F4FFA8B5D5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