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71792"/>
        <c:axId val="12056797"/>
      </c:barChart>
      <c:catAx>
        <c:axId val="16871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6797"/>
        <c:crosses val="autoZero"/>
        <c:auto val="1"/>
        <c:lblAlgn val="ctr"/>
        <c:lblOffset val="100"/>
        <c:noMultiLvlLbl val="0"/>
      </c:catAx>
      <c:valAx>
        <c:axId val="12056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71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FE7-DE7B-4377-82D7-EB90ADA9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66D-A110-40BC-ADD3-1BE7A5FA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BEE-1156-4FA8-BF4C-C1D34CA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5F9-714E-4136-B1BD-56ACFA70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AFA-169A-42FC-97CC-B44D0EE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06C-0416-4A0E-9E46-0DA3EBB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784-2B1F-409C-B035-71C532DC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0BD-4B04-4A3A-82DE-02121587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BF2-48A7-48BF-BE7E-014162D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53A-42E6-49AF-81D2-A733CB10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D99-4364-4935-9DD7-2316E655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8EF-C487-4AA1-ADAB-DCFFBD3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F742C-9923-4700-98B5-C5A9CA8DD9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