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32154"/>
        <c:axId val="53733343"/>
      </c:barChart>
      <c:catAx>
        <c:axId val="38032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33343"/>
        <c:crosses val="autoZero"/>
        <c:auto val="1"/>
        <c:lblAlgn val="ctr"/>
        <c:lblOffset val="100"/>
        <c:noMultiLvlLbl val="0"/>
      </c:catAx>
      <c:valAx>
        <c:axId val="53733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32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2EA-DB70-486E-A4A6-9C670294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294-1332-49DB-8081-4B97571F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331-35B1-4D34-94CA-CBE2B40E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7A6-02D7-4E96-A275-8A0EBEBA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B5C-9469-4387-9A50-F510A543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4B6-04F0-4598-9BDD-3FC58143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205-3AF0-41CA-A699-77364906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B94-8177-46AD-BAA3-D4EEA3F8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B67-A9C3-44BA-B6FE-E6BE587A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7D6-0843-4389-9D58-CF0422BA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2DB-ADC2-45DF-87C6-6CF61EF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379-889F-41E8-AE49-0A09F41A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05857-14D1-4DD2-BCEB-7F3C86E806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