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3123818"/>
        <c:axId val="58992846"/>
      </c:barChart>
      <c:catAx>
        <c:axId val="6312381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992846"/>
        <c:crosses val="autoZero"/>
        <c:auto val="1"/>
        <c:lblAlgn val="ctr"/>
        <c:lblOffset val="100"/>
        <c:noMultiLvlLbl val="0"/>
      </c:catAx>
      <c:valAx>
        <c:axId val="5899284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12381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CD988-873A-4BD9-82CB-8BF90CF74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4FFB4-D056-4988-AF73-B6B0B6292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81886-7C38-4372-800B-CCF671170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3EE2A-64F5-4CF5-BAB2-5BB9BFDDF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49429-E274-46E2-89D8-B405BFACA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9FFA3-8AEA-4870-8052-21A8328D0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A2038-6F0C-4C90-A820-4D9B1AF11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B899D-DFA2-4B14-BB55-F078B8F5F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B954A-8B9E-4C11-B15F-62A102F53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6F0E3-4F90-4234-8867-84B7B451A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5A0BA-6EDA-4FA8-B66D-4B17591B3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F4FF2-A0C1-440D-B602-5232898E7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BDF06D-DDFC-4B1A-A890-A1FF1E2D4F1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