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715004"/>
        <c:axId val="42544125"/>
      </c:barChart>
      <c:catAx>
        <c:axId val="387150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544125"/>
        <c:crosses val="autoZero"/>
        <c:auto val="1"/>
        <c:lblAlgn val="ctr"/>
        <c:lblOffset val="100"/>
        <c:noMultiLvlLbl val="0"/>
      </c:catAx>
      <c:valAx>
        <c:axId val="425441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150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FE48-8496-40DC-BE43-857A7A8F1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63CE-FDD2-47BB-B41D-EC571E93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116B-9322-46F3-A898-BD890CB00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4E3D-C263-4CA8-8225-E6AA833E7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1701-BD97-484E-A889-87D1CEC1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38C0-0E52-4277-B19F-162E7C85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62F4-9D4B-4B5A-94F8-52E41F97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A378-1511-4BEE-870E-8B882E7E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C5F5-53DF-41E1-8DA8-76ED4F07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CF7A-4DE6-4BA7-B74D-7C800E0C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AF12-3C63-4CA2-8ED2-2A76B73B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D3C1-B506-4DA0-9134-0F97AAAE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1D0D59-0DB3-405B-B6E9-BB864F5D23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