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261351"/>
        <c:axId val="66804373"/>
      </c:barChart>
      <c:catAx>
        <c:axId val="392613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04373"/>
        <c:crosses val="autoZero"/>
        <c:auto val="1"/>
        <c:lblAlgn val="ctr"/>
        <c:lblOffset val="100"/>
        <c:noMultiLvlLbl val="0"/>
      </c:catAx>
      <c:valAx>
        <c:axId val="668043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2613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6B27-764A-418F-8FA0-5B967ABC9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980B-9E84-4FBF-B54E-189781CA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3EA6-2C6B-463B-ADF0-A21183222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263C-1F4D-4179-8D6C-B3E3EC8C2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C2D0-565F-4B8B-BA35-D596435D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F4AE-284C-42C3-8938-C7A8A68E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A1EC-6635-403E-900B-C5C53DAC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626B-FCD7-4E74-96E4-77260E8D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7469-22CF-4D6F-B99D-99E24558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8991-DD9E-4C1C-BE4C-15C36CBC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DFAF-0033-421F-BE07-F6FBEF15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D7DE-237E-4696-9603-ABAD35D0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C83B2-295E-4A74-83F1-1903BF7F85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