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2411675"/>
        <c:axId val="94385973"/>
      </c:barChart>
      <c:catAx>
        <c:axId val="2241167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385973"/>
        <c:crosses val="autoZero"/>
        <c:auto val="1"/>
        <c:lblAlgn val="ctr"/>
        <c:lblOffset val="100"/>
        <c:noMultiLvlLbl val="0"/>
      </c:catAx>
      <c:valAx>
        <c:axId val="9438597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41167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A8E3C-EDC0-437F-B0AC-E1CEAF144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921B8-2C95-4EBA-BB4A-065FA4BF5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1D598-4B39-456F-AF2C-F31DBA82C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04B88-1798-47DC-94F1-E3240EEC1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74A64-1A8D-4078-B74E-1A94D1C98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885AA-9D51-43C6-97EA-05E3B31FB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9BE93-B152-4409-87EF-4C5AD9B67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E2C53-3E26-4A81-8EB2-419AB3D92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5B528-8F2B-4642-A15B-492247473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1FB30-887E-4AC9-99CF-1771CDCA1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A8B6A-87CB-42DD-B654-48F992820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0A813-C383-40EC-980C-A8D0B1BF6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275C91-E8D6-41BB-9421-F23C40AD4F2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