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69891"/>
        <c:axId val="52023728"/>
      </c:barChart>
      <c:catAx>
        <c:axId val="63869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23728"/>
        <c:crosses val="autoZero"/>
        <c:auto val="1"/>
        <c:lblAlgn val="ctr"/>
        <c:lblOffset val="100"/>
        <c:noMultiLvlLbl val="0"/>
      </c:catAx>
      <c:valAx>
        <c:axId val="52023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69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B6F-9253-48EF-8C45-4265EC25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EAC-6570-4BAD-9BCE-3B9DB4DA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BC6-394A-4A17-821C-9F53D0E4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FB3-3084-4ECB-99B7-2D3D2784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4E7-3B98-4414-B433-0DFA7078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201-9E91-48BF-8242-DEAAC56A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EA7-28F7-421E-9459-33FB627B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C2D-D1A3-40D6-91BD-5FA976D5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366-3073-46A8-8148-4C71D5FF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8FB-2380-4194-A549-6218FC34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16A-6718-40E5-BFEA-D735554C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D0B-1959-4524-9C82-E3C846E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95E19-7110-4429-A212-4CB5DABE4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