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78974"/>
        <c:axId val="33095027"/>
      </c:barChart>
      <c:catAx>
        <c:axId val="56478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95027"/>
        <c:crosses val="autoZero"/>
        <c:auto val="1"/>
        <c:lblAlgn val="ctr"/>
        <c:lblOffset val="100"/>
        <c:noMultiLvlLbl val="0"/>
      </c:catAx>
      <c:valAx>
        <c:axId val="33095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78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3E0-3011-4056-AC1C-411DDCBD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832-8BBF-4AA5-9368-197A6E94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5F2-2653-4231-8702-6ACE780F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B69-E7C3-4928-9E8E-8122B24B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10A-D2BB-4321-A932-BE08557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0E8-CBF6-4B59-A0EE-1D7F3867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E15-7E27-4299-B79A-A0171067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BA6-06C9-4E34-8938-AEF8A6DD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90C-4669-4DF9-86E4-979B2CD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02B-D097-4541-ADD3-AF0110D5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806-88BE-42A8-9B2E-41C218D6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23D-D0C3-4192-AA69-866791D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B98AA-1A9F-4A57-A687-92293711D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