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13780"/>
        <c:axId val="98036182"/>
      </c:barChart>
      <c:catAx>
        <c:axId val="63913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36182"/>
        <c:crosses val="autoZero"/>
        <c:auto val="1"/>
        <c:lblAlgn val="ctr"/>
        <c:lblOffset val="100"/>
        <c:noMultiLvlLbl val="0"/>
      </c:catAx>
      <c:valAx>
        <c:axId val="98036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13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6C8-31A3-4951-81B8-EE15A62B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8E4-7989-4A01-A7C2-5876D969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657-C12A-451C-A35B-BC21546F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DC1-462D-472D-AA30-E337CD0E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D45-6EEC-4202-B6C4-80CD66FB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448-24F1-4266-8578-59C94141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B9E-48B6-4359-A98A-E2211560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1B6-A379-43B4-A355-0D3B99B8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0AD-1BB2-47EC-B762-4D0E2057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070-30E0-4762-823A-AAD751E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D5B-DAD5-43ED-AEE9-C925A71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A86-8A22-4D37-B847-E534CEF0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7149D-E365-4EB6-B93F-FB6A128C55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